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A067-EAA5-440A-BA41-BCD2D363A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B6F9-865B-4155-8B59-79401D49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9102-12C4-4481-8D49-AD3D30C2F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AD92-2E52-4612-A4D2-98E93B258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2D4C-D628-4A8B-855C-FFD196818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4634-0656-4C7C-B390-C2D0C1E0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B90D-808C-4729-BE71-6253CE73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D5DC-80F6-4E7C-923A-780CB99B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300F-84D9-43FC-8E57-A7D8DE24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2AA3-85BD-4F8C-912A-1D6B61AC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B2CF6-1DE8-4225-918C-0EF97CC3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B67D-0682-4723-B7E1-53EEAB70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2D54-0FAB-4B46-8AC5-2CEA501A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1D52-3EDF-4418-BD00-EB41CF70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4F97-9EDD-419E-9772-41F9E2BB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23E3-3496-4AED-9E2B-0845E7D88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BA75-BA60-41AA-AB56-4AA0275F1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F318-68AE-45A0-8122-2C641C07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A684-C3A7-4172-8D72-5729DE45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2BF3-BB60-4153-9910-B6624D5D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CBD8-E2A3-4556-9A6F-24E30271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7BEF-5212-481C-878A-28A039E0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B95C-2837-4960-9605-A5EF85DE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BBE8-6FDD-4F05-97F3-119B7887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061B-8B8A-42DB-B81B-061ED1DD6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ACF7-934C-4ECD-86C8-1CD634B6562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6" descr="podloga"/>
          <p:cNvPicPr/>
          <p:nvPr/>
        </p:nvPicPr>
        <p:blipFill>
          <a:blip r:embed="rId1"/>
          <a:stretch/>
        </p:blipFill>
        <p:spPr>
          <a:xfrm>
            <a:off x="571680" y="500040"/>
            <a:ext cx="7921440" cy="5931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7"/>
          <p:cNvSpPr/>
          <p:nvPr/>
        </p:nvSpPr>
        <p:spPr>
          <a:xfrm>
            <a:off x="1371600" y="4581360"/>
            <a:ext cx="64008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666"/>
                </a:solidFill>
                <a:latin typeface="Verdana"/>
              </a:rPr>
              <a:t>Доц. др Катарина Парезановић Илић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	</a:t>
            </a:r>
            <a:r>
              <a:rPr b="1" lang="en-GB" sz="42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Једносмернe импулсне струје (фекв</a:t>
            </a:r>
            <a:r>
              <a:rPr b="1" lang="sr-CS" sz="42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е</a:t>
            </a:r>
            <a:r>
              <a:rPr b="1" lang="en-GB" sz="42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нција до 1000 Hz)</a:t>
            </a: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c85e"/>
                </a:solidFill>
                <a:latin typeface="Times New Roman"/>
              </a:rPr>
              <a:t>Модулисане струј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Модулације представљају "пакете" импулса где се интензитет пове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ава постепено, а затим постепено смањује. Изме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ђ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у тих "пакета" импулса налази се пауза. На овај на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ч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ин добијају се модулисане струје по ја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ч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ини где за време трајања модулационог импулса ми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је стално контрахован, а за време паузе долази до деко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н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тракције и одмор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Импулси преко 30 </a:t>
            </a:r>
            <a:r>
              <a:rPr b="0" lang="sr-Latn-CS" sz="2000" spc="-1" strike="noStrike">
                <a:solidFill>
                  <a:srgbClr val="eaeaea"/>
                </a:solidFill>
                <a:latin typeface="Times New Roman"/>
              </a:rPr>
              <a:t>ms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и паузе 50-60</a:t>
            </a:r>
            <a:r>
              <a:rPr b="0" lang="sr-Latn-CS" sz="2000" spc="-1" strike="noStrike">
                <a:solidFill>
                  <a:srgbClr val="eaeaea"/>
                </a:solidFill>
                <a:latin typeface="Times New Roman"/>
              </a:rPr>
              <a:t> ms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, се не модулису јер такви импулси изазивају појединацне контракције. Број модулација - фреквенција модулације оби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ч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но је 6-30 у минут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1547640" y="3168720"/>
            <a:ext cx="6193080" cy="222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816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II</a:t>
            </a:r>
            <a:r>
              <a:rPr b="1" lang="en-GB" sz="40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	</a:t>
            </a:r>
            <a:r>
              <a:rPr b="1" lang="en-GB" sz="40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Једносмернe импулсне струје (фекв</a:t>
            </a:r>
            <a:r>
              <a:rPr b="1" lang="sr-CS" sz="40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е</a:t>
            </a:r>
            <a:r>
              <a:rPr b="1" lang="en-GB" sz="40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нција до 1000 Hz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92000" y="2354040"/>
            <a:ext cx="6994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) Leduc-ova струј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) Bernard-ove (DDS) струј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) експон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ен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цијал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не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тру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је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(Kowarschik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) модулисане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тр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уј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c85e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eec85e"/>
                </a:solidFill>
                <a:latin typeface="Times New Roman"/>
              </a:rPr>
              <a:t>Leduc-ove струј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мпулсна галванизација је поступак у ком се користе импулси релативно мале амплитуде који су испод прага побу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ђ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вања моторичких неурона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У импулсној галванизацији нај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е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е се користе 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DDS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дијадинамицне струје) и 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Leduc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ове струје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Leduc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ове струје имају импулс 2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а паузу 5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У литератури се сре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у појмови “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Ultrareiz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" (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надра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аји), 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Traebertove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струје и сл. Аналгезија код стабилне галванизације се пост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е испод аноде, а код импулсне галванизације испод катод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Bernard-ove (DDS) струје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051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Дијадинами</a:t>
            </a:r>
            <a:r>
              <a:rPr b="0" lang="sr-CS" sz="2200" spc="-1" strike="noStrike">
                <a:solidFill>
                  <a:srgbClr val="eaeaea"/>
                </a:solidFill>
                <a:latin typeface="Times New Roman"/>
              </a:rPr>
              <a:t>ч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ке струје се састоје из серије разли</a:t>
            </a:r>
            <a:r>
              <a:rPr b="0" lang="sr-CS" sz="2200" spc="-1" strike="noStrike">
                <a:solidFill>
                  <a:srgbClr val="eaeaea"/>
                </a:solidFill>
                <a:latin typeface="Times New Roman"/>
              </a:rPr>
              <a:t>ч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ито модулисаних импулса по у</a:t>
            </a:r>
            <a:r>
              <a:rPr b="0" lang="sr-CS" sz="2200" spc="-1" strike="noStrike">
                <a:solidFill>
                  <a:srgbClr val="eaeaea"/>
                </a:solidFill>
                <a:latin typeface="Times New Roman"/>
              </a:rPr>
              <a:t>ч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есталости, интензитету, облику и амплитуди. Фреквенција је од 50 до 100</a:t>
            </a:r>
            <a:r>
              <a:rPr b="0" lang="sr-Latn-CS" sz="2200" spc="-1" strike="noStrike">
                <a:solidFill>
                  <a:srgbClr val="eaeaea"/>
                </a:solidFill>
                <a:latin typeface="Times New Roman"/>
              </a:rPr>
              <a:t>Hz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. Ове модулације се комбинују са галванском струјом (база) ниског интензитета до 2 </a:t>
            </a:r>
            <a:r>
              <a:rPr b="0" lang="sr-Latn-CS" sz="22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А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Дијадинами</a:t>
            </a:r>
            <a:r>
              <a:rPr b="0" lang="sr-CS" sz="2200" spc="-1" strike="noStrike">
                <a:solidFill>
                  <a:srgbClr val="eaeaea"/>
                </a:solidFill>
                <a:latin typeface="Times New Roman"/>
              </a:rPr>
              <a:t>ч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не струје се називају и Бернардове струје јер их је француски стоматолог Бернард увео у терапијску примену 1960. год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5813280" y="1600200"/>
            <a:ext cx="2862360" cy="453060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60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c85e"/>
                </a:solidFill>
                <a:latin typeface="Times New Roman"/>
              </a:rPr>
              <a:t>Експоненцијалне струје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69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Експоненцијална струја представља галванску струју импулсног тока. Трајање импулса се кре</a:t>
            </a:r>
            <a:r>
              <a:rPr b="0" lang="sr-CS" sz="22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е и до 2000</a:t>
            </a:r>
            <a:r>
              <a:rPr b="0" lang="sr-Latn-CS" sz="2200" spc="-1" strike="noStrike">
                <a:solidFill>
                  <a:srgbClr val="eaeaea"/>
                </a:solidFill>
                <a:latin typeface="Times New Roman"/>
              </a:rPr>
              <a:t>ms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. Интензитет који се мо</a:t>
            </a:r>
            <a:r>
              <a:rPr b="0" lang="sr-CS" sz="2200" spc="-1" strike="noStrike">
                <a:solidFill>
                  <a:srgbClr val="eaeaea"/>
                </a:solidFill>
                <a:latin typeface="Times New Roman"/>
              </a:rPr>
              <a:t>ж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е применити је и до 80 </a:t>
            </a:r>
            <a:r>
              <a:rPr b="0" lang="sr-Latn-CS" sz="22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А. Прве резултате о кори</a:t>
            </a:r>
            <a:r>
              <a:rPr b="0" lang="sr-CS" sz="2200" spc="-1" strike="noStrike">
                <a:solidFill>
                  <a:srgbClr val="eaeaea"/>
                </a:solidFill>
                <a:latin typeface="Times New Roman"/>
              </a:rPr>
              <a:t>шћ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ењу експоненцијалних струја даје Бергони (1895) и описује то појмом "електрогимнастика". Но, детаљан опис и обја</a:t>
            </a:r>
            <a:r>
              <a:rPr b="0" lang="sr-CS" sz="22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њења деловања експоненцијалних струја даје Коwа</a:t>
            </a:r>
            <a:r>
              <a:rPr b="0" lang="sr-Latn-CS" sz="2200" spc="-1" strike="noStrike">
                <a:solidFill>
                  <a:srgbClr val="eaeaea"/>
                </a:solidFill>
                <a:latin typeface="Times New Roman"/>
              </a:rPr>
              <a:t>rschik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 (1951) па се експоненцијалне струје називају Коwа</a:t>
            </a:r>
            <a:r>
              <a:rPr b="0" lang="sr-Latn-CS" sz="2200" spc="-1" strike="noStrike">
                <a:solidFill>
                  <a:srgbClr val="eaeaea"/>
                </a:solidFill>
                <a:latin typeface="Times New Roman"/>
              </a:rPr>
              <a:t>rschik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 -ове струје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5105520" y="2819520"/>
            <a:ext cx="3809880" cy="26492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6858000" y="14479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tu - период улазa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tp - период pаda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паузa = T - t1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81160"/>
            <a:ext cx="78454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eec85e"/>
                </a:solidFill>
                <a:latin typeface="Times New Roman"/>
              </a:rPr>
              <a:t>Облици импулс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а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правоугаон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б) троугласт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д) експоненцијалн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ц) синусоидн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е) трапезоидн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ф) комбинован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г) Треагернове струј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х) руска стимулациј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3851280" y="1989000"/>
            <a:ext cx="4971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60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eec85e"/>
                </a:solidFill>
                <a:latin typeface="Times New Roman"/>
              </a:rPr>
              <a:t>Однос угла и интензитета импулс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859280" y="2636640"/>
            <a:ext cx="3827520" cy="34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М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ђ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узависност нагибног угла и интензитета (ефикасност импулса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457200" y="2492280"/>
            <a:ext cx="4035600" cy="22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2120" y="328680"/>
            <a:ext cx="8161200" cy="1077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eec85e"/>
                </a:solidFill>
                <a:latin typeface="Times New Roman"/>
              </a:rPr>
              <a:t>Акомодабилитет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Здрав, нормалан м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ако се дражи троугластим импулсима има могу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ност да се прилагоди на постепен пораст интензитета и не одговара м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ном контракцијом на мали интензитет. Код пове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ања интензитета од 40-60 мА и здрави м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 имају одговор на дражење троугластим импулсима. Млитаво одузет м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нема способност акомодације, ве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реагује и на мале импулсе када се дражи троулгастим импулсима. Услед тога одузет м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код лезије периферног моторног неурона реагује и на мале интензитете 10-20 мА. На овај нацин ми применом експоненцијалних струја мо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емо селективно дражити одузете м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eec85e"/>
                </a:solidFill>
                <a:latin typeface="Times New Roman"/>
              </a:rPr>
              <a:t>Акомодабилитет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Променом трајања импулса експоненцијална струја се може прилагодити било ком степену периферне одузетости. Уколико је најтеже о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те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ење примењује се експоненцијална струја са дужим трајањем импулса - 500-1000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пауза је до 2000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код несто лак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х о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те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ења 250-500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а пауза до 1000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и код лаких о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те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ења импулс траје 50-125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а пауза 250-500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Нормално надра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љив м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реагује на 0,1 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ms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трајања импулса, а пауза је до 20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У току ле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ења код побољ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ања, опоравка периферног моторног неурона скра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ују се импулси и пауза, а побољшава се акомодибилитет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17:57:46Z</dcterms:created>
  <dc:creator>WIN98SE</dc:creator>
  <dc:description/>
  <dc:language>en-US</dc:language>
  <cp:lastModifiedBy>katarinaparezanovicilic@gmail.com</cp:lastModifiedBy>
  <dcterms:modified xsi:type="dcterms:W3CDTF">2020-09-26T16:58:50Z</dcterms:modified>
  <cp:revision>19</cp:revision>
  <dc:subject/>
  <dc:title>II Jednosmerne impulsne struje (fekvencija do 1000 Hz)</dc:title>
</cp:coreProperties>
</file>