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316-8C66-465E-893A-C0DB476A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77E-24F5-445B-B8BC-52311355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627-3840-44AB-85D8-FEAC091E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072-55ED-4EEE-A458-5BA2F3DD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415-9015-432A-A7E3-F1659E18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B2C-2B5E-4A91-A037-BEB92159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97D-7F58-4122-B0C9-D0E41574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872-E877-4135-82EF-2DF681BB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AB6-2124-4A94-9D8D-9C28EF56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30D-B968-4EFD-955C-66B542B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BCE-420B-4EDB-93F0-8F14F370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E74-8AAC-4EE3-889F-F51647B3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09A1-06D0-44AD-AEFE-4E0F4F114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Arial"/>
              </a:rPr>
              <a:t>БАЛНЕ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дела према милимоларној концентр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основу милимоларних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концентрација јона могуце је поредити минералне воде са осмотским притиском крви. Према таквој анализи минералне воде се деле на хипотоне, изотоне и хипертоне. Изотоне воде треба да имају укупну милимоларрну концентрацију око 300, а што одговара раствору од 9 гр NaCl /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л= молекуларн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(МГ), атомск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у грам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345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Минералне воде према темперури се деле на хладне и топл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ладне воде су када је температура мања од&l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, а топле када је температура веца од &g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ипотермне су од 20-30 степени, хомеотермне 30-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и хипертерме изнад 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Врањска бања, Јоша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 бања, Куршумлијска и др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адио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Радиокативност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 минералним водама на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има радона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ји је еманација радиј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от му је 3,82 дана, емитује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зраке. Алфа имају лековита својства и налазе се у водама Нишке бање као и Сокобањ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280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које сад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ише од 1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суве супстанце. Карактер ових вода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ују јони који су заступљени са више од 20 миливал. Ове воде на основу минералних састојака делимо на хидрокарбонатне (NaCl i KCl су алкалне и земноалкалне ако садрзе Ca, Mg), сулфатне: (Na сулфатне и Mg сулфатне) и хлоридне (слане вод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ине минералних састојака, али који су з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јно биолошки активни. Овде спадају след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оде: сулфи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сумпора, јо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јода, гвоздјевите-садрзе минимално 10 mg/l раствореног гв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, арсенск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0,7 mg As/l вод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растворене гасов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воде се деле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-сард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најмање 1 гр/л растворен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2 (Бујано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а бања), сулфидне –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е H2S и радон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лигоминералне воде "дивље воде". Ове воде садрзе до 1 г/л растворене супстанце. Температура је 2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° (Пролом бања). Како ове воде немају много соли могу да се пију као диуретско средство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-3 литрa на 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556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н употребе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ије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купа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вагиналним испирањ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инхалир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јодно бром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диоакт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ане и хидрокарбонатне 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мзиградска б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lika 3"/>
          <p:cNvPicPr/>
          <p:nvPr/>
        </p:nvPicPr>
        <p:blipFill>
          <a:blip r:embed="rId1"/>
          <a:stretch/>
        </p:blipFill>
        <p:spPr>
          <a:xfrm>
            <a:off x="1676520" y="2158920"/>
            <a:ext cx="5562360" cy="394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Балнеологија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е на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дисиплина која про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ва природне лековит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иоце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Балнеотерапија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је кориш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ење природних лековитих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иоца у профилак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ке и терапијске свр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 минералним водама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е подразумевају воде које имају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ише од l/gr/l воде, минералних састојака или је температура воде таква да се м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у терапијске сврхе. Према геолошком пореклу минералне воде се деле на јувенилне, вадозне и фоси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увенилне во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80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7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Јувенил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отичу из усијане магме која се у унутрашњости земље налази под великим притиском. Ако се тај притисак услед тектонских поремећаја смањи, прегрејана водена пара садржана у магми излази из ње и продире у слојеве б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е 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мнљиној површини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утем се хлади и кондензује, а отапањем минерала из разних земљиних слојева, 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инерализацију. К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овако минерализована вода избија, на површину земље, на местима најмањег отпора у облику извора. Јувенилне воде се одликују константним хемијским саставом, температуром и капацитетом изви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су површинск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кон обилних падавина површинске воде пониру у земљу, бивају обог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не минералима и гасовима , да би се поново појавиле на површини као минералн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Ове воде мењ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током године састав, температуру и капацитете извирања,а што зависи од кол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е падав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долазе из великих дубина и оне су по саставу стабилније и топлије. Настају из падавина које продиру у дубоке пешчане и шљунчане слојеве и ту остају затвирене, јер се се на те слојеве исталожили непропусни слојеви. До тих вода се допире обично бушењем, а како су окружене непропусним слојевима, то се не могу обнављати, те им је трајање ограничено. Такве воде често прате налазишта петролеја па се називају петролејским водама, а како уз то садрже јод, зову се и јод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арактеристике минералних 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новне карактеристике минералних вода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инерализац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онски саста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мпер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адр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ј гас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диоактивност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изац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Минерализација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растворених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рстих материја које се у водама налазе у облику јона,недисоцираних молекула и колоида. Ова 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сувих материја се од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је тако што се вода греје на 180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у се добија суви остатак који омог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ва класификацију минералних вода на : минералне 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ко сад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више од 1гр/л и олигоминералне -ако садрзе мање од 1гр/л сувог остат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онски са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Јонски састав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едставља садзај јона-катјона и ањона. Од  катјона нај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о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Mg++, Cа++, 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 ањона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CO³, Cl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СО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лементи у трагу, али  биолошки врло активни, с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, Br, Fe, S, As, Cu,  Co и др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јз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јнији гасови су: CО2, H2С и радон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оред њих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се још и метан, етан, хелијум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6:50Z</dcterms:modified>
  <cp:revision>13</cp:revision>
  <dc:subject/>
  <dc:title>Balneoterapija </dc:title>
</cp:coreProperties>
</file>