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11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242A-8398-43F3-AA87-D693AA1D9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5787-57D4-41E7-8C33-DC9AA509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24A0-1F44-4F07-8FD3-FE81817B0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0B8F-D10E-45CE-AE46-D9D8B548A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9433-2848-42B0-A578-22B2E6FFA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3D8F-0821-4F39-8D38-80EB3F8C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398A-B99E-443A-B0CD-C9227AF2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46E3-A063-4940-893C-0232B8A7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D7C4-16F0-4B51-AF43-17D80731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1A0B-33B3-4606-9DE7-29D87396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C17C-1D82-4422-A5CA-614A8B14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B764-9F36-4419-8941-611329A6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63CD-25AE-4B00-AD91-D70A64DA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D6A4-847B-43D6-9BEB-5B90A7BA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D2C4-901E-44F1-8BD5-7EC56D4A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E9D5-B30A-4A92-B267-A190983F5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6897-2565-4D57-8EDD-86CF20710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F678-5F15-4C11-9A42-4DA1082B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2124-1E18-485F-8616-38F3F42A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3242-5417-4F52-8E2E-BE0241A6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724E-9BB1-455C-90F0-9F1EE12B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8CD4-127A-4AF3-9DBA-7C09F592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0504-91FA-44A1-91ED-4BA6AB11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9ACD-BF13-4B2B-B7DA-DFF396C0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0FDE-3860-4F2D-9A1B-8F7E74655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CD46-E917-4379-BD17-D6EF4383EC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podloga"/>
          <p:cNvPicPr/>
          <p:nvPr/>
        </p:nvPicPr>
        <p:blipFill>
          <a:blip r:embed="rId1"/>
          <a:stretch/>
        </p:blipFill>
        <p:spPr>
          <a:xfrm>
            <a:off x="611280" y="476280"/>
            <a:ext cx="7921440" cy="5931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1371600" y="4581360"/>
            <a:ext cx="64008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993300"/>
                </a:solidFill>
                <a:latin typeface="Times New Roman"/>
              </a:rPr>
              <a:t>Доц. др Катарина Парезановић Или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63280" y="2133360"/>
            <a:ext cx="54802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Електротерапија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Доказивање поло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зме се стаклена чаша облика слова "У" и у једну страну стави анода а у другу катода. Физиолошки раствор се затим наспе се у чашу. Укључи се коло константне галванске струје. У сваки крак чаше облика "У" сипа се неколико капи фенолфталеина. У контакту са негативним полом фенолфталеин показује црвену бој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 горе описан начин пропусти се галванска струја кроз физиолошки раствор и стави лакмус хартија. У пределу позитивног пола лакмус хартија је црвена, а у пределу негативног пола лакмус хартија мења боју у плав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ндикације: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уралгије, компресивне радикулопатије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лг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сттрауматска стања где је ко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 интактн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ериферна одузетост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ања после ЦВИ (обрнута галванизација катода дистално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клузивна васкуларна обољења екстремитета у фазама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по Фонтаинеу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орбус Раyнауд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еуматска обољењ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онтраиндикације: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етални предмети у ткиву (остеосинтезе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т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ења ко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е на месту где треба да се апликују електроде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локална акутна запаљењ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фебрилна стањ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екомпензација срц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фебрилна стањ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Дозирање галванске струј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нтензитет об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о износи од 0,1-0,5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/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Максимални интензитет на целој електроди не сме бити в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 од 30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Он се мо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 лако изр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нати по формул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аx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/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аx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маскимални интензит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површина електрод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/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(интензитет струје по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) - зависно од индивидуалне осетљивости пацијент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цедуре трају око 20 мин. У једној серији об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о се спроводи 10-15 процедура свакодневно, након тога следује пауза 10-15 дана. Неуспеси у терапијским у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нцима су последица кратког трајања процедуре или слабог интензитета струј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пецијални облици примене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619280" y="1844640"/>
            <a:ext cx="70675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гативна електроли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Јонофоре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Хидрогалванске купк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Електрофореза леко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Негативна електролиза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ва процедура константне галванске струје подразумева контролисану деструкцију ткива кауст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им ефектом негативног пола. Користи се несразмера изм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ђ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 електрода - негативни пол је платинска игла која се уводи у фоликул длаке (козметичке сврхе) или у подруцје к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их израслина (тумора), а неактивна електрода је анода вел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не длана или цак и већа. Код депилације користи се интензитет 1-2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 у трајању 2-3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sec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 код тумора к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 5-20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 у трајању 30-60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se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Поступак је бола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ндикације: Х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ертрихосис, веру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, келоидни 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љак и д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Јонофореза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Јонофореза је поступак електорлизе негативним полом за стерилизацију канала корена и апликативног дела зуба. Ткивне тецности се крећу као и у другим ткивима доводећи до ефеката полова. Јони О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дрзавају оптимални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Х у периапикалним ткивима и имају антизапаљенски ефекат и бактерицидни ефекат. Истовремено, са стерилизацијом канала размекшава се дентинско ткиво и на тај нацин олакшава ширење канал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Хидрогалванске купк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Хидрогалванске купке се користе за в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 површине. Третирани део тела (подлактица, подколеница или цело тело)је преко медијума тј. воде у контакту са извором галванске струје. Према броју када -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лија имамо једн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лијске, дв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лијске,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твор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лијске купке, а за апликацију целог тела користе се галванске кад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цедура траје као и галванизација 15-20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Серија је најмање 10 процедура сваки дан, а према слу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ју м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 и ду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 трајати. Температура воде је 34-36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Индикације су исте као и код галванизације. Контраиндикације су: запаљења к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, фебрилна стања, тешки ср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ни болесници, тромбофлебитиси и д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Галванска  кадиц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3800" cy="4530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4653000" y="1600200"/>
            <a:ext cx="40338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Галванске кад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3800" cy="45306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52640" y="3068640"/>
            <a:ext cx="4033800" cy="30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мена галваске струје и хидротерапиј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eec94"/>
                </a:solidFill>
                <a:latin typeface="Times New Roman"/>
              </a:rPr>
              <a:t>Подела е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лектротерапиј</a:t>
            </a:r>
            <a:r>
              <a:rPr b="1" lang="sr-Latn-CS" sz="4400" spc="-1" strike="noStrike">
                <a:solidFill>
                  <a:srgbClr val="feec94"/>
                </a:solidFill>
                <a:latin typeface="Times New Roman"/>
              </a:rPr>
              <a:t>е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Једносмерне струје (фреквенција 0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Једносмерна галванска струја се користи као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а) стабилна галванизација (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.G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Специјални облици примене галванске струје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а) негативна електролиз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б) јонофорез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в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хидрогалванске (хидроелектришне) купк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г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електрофореза леков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Једносмерне импулсне струје (феквенција до 1000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z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а) Ледуk-ова струј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б) Бернард-ове (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DS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струј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в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експоненцијалне струје (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owarschik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г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модулисане струј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Електрофореза леко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ранскутано уношење лекова помо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 галванске струје назива се електрофореза лекова. Изнимно се лекови уносе и преко слузокозе (ендоназална електрофореза лекова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Лек се мо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е унети преко ко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е и слузоко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е само ако је растворљив у води и ако се лек у воденом раствору налази дисоциран. Електрофореза се заснива на кретању позитивних и негативних јона ка супротно наелектрисаним половим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Електрофореза леко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Hittorf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оглед указује на пролаз јона кроз глину,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Chatzky-e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оглед на пролаз јона кроз свез кромпир, Лабатута оглед кроз мртво ткиво зивотињског порекла, 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Ensc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Ledu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доказују кретање јона кроз зивотињски организам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3708360" y="1716120"/>
            <a:ext cx="5364360" cy="351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Електрофореза леко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2491920"/>
            <a:ext cx="40338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јпознатији од свих је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Leduco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оглед који показује да се фармакодинамско дејство лека не мења при пролазу кроз зиви организам под деловањем галванске струј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1"/>
          <a:stretch/>
        </p:blipFill>
        <p:spPr>
          <a:xfrm>
            <a:off x="4653000" y="1600200"/>
            <a:ext cx="40338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Електрофореза леко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реме третмана добијамо дељењем броја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за конкретни лек са 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таном вреднош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 струје 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m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која је подношљива за третирану особу. Струју у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A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тавамо на дисплеју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. Т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а иза друге цифре представља "зарез"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 пример, ако уносимо витамин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аскорбинска киселина) ције је дозирање 100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/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а на дисплеју оцитамо 5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 (струја коју подноси тај пацијент), тада је време третмана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=100:5=20 minu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Object 10"/>
          <p:cNvGraphicFramePr/>
          <p:nvPr/>
        </p:nvGraphicFramePr>
        <p:xfrm>
          <a:off x="-468360" y="109440"/>
          <a:ext cx="8712360" cy="699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68360" y="109440"/>
                    <a:ext cx="8712360" cy="699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867280" y="256500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Електрофореза 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лекова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1120" y="387000"/>
            <a:ext cx="7627680" cy="9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eec94"/>
                </a:solidFill>
                <a:latin typeface="Times New Roman"/>
              </a:rPr>
              <a:t>Подела е</a:t>
            </a:r>
            <a:r>
              <a:rPr b="1" lang="en-US" sz="4400" spc="-1" strike="noStrike">
                <a:solidFill>
                  <a:srgbClr val="feec94"/>
                </a:solidFill>
                <a:latin typeface="France YU"/>
                <a:ea typeface="Times New Roman"/>
              </a:rPr>
              <a:t>лектротерапиј</a:t>
            </a:r>
            <a:r>
              <a:rPr b="1" lang="sr-Latn-CS" sz="4400" spc="-1" strike="noStrike">
                <a:solidFill>
                  <a:srgbClr val="feec94"/>
                </a:solidFill>
                <a:latin typeface="Times New Roman"/>
              </a:rPr>
              <a:t>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8710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 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тати</a:t>
            </a: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ч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ки електрицитет (франклинизација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V 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Наизменишне струј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Струје ниске фреквенције (фреквенција до 1000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z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а) фарадска струј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б) транскутана електришна неурална стимулација (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ENS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Струје средње фреквенције (фреквенција преко 1000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z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а) струје средње фреквенције - интерферентне Немец струј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б) Синусоидно модулисане струје (Руска стимулација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Високофреквентне струје - фреквенција преко 100.000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z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а) Д'Арсонвализација (фреквенција 100.000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z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б) Дуготаласна дијатермија (фреквенција 500.000 - 1.000.000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Hz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в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краткоталасна дијатермија (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TD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фреквенција 10-100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Hz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г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ултракараткоталасна дијатермија (фреквенција 434,78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Hz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д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микроталасна дијатермија (фреквенција 2.450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Hz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Галванска струј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Једносмерна струја представља облик електришне енергије која у одре|еном временском интервалу не мења свој ток. Ако се при томе не мења ни интензитет ни напон, тада говоримо о константној једносмерној струји, тј. галванској струји. Деловање галванске струје на организам заснива се на особини поларитета, а то условљава примарно физишко и секундарно физиоло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 деловање на организа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Облици галванске струј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2124000" y="1916280"/>
            <a:ext cx="48783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Апликација галванске струј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лонгитудиналн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галванизациј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када су електроде постављене на крајевима третираног дела, односно дуз екстремитет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4653000" y="1600200"/>
            <a:ext cx="40338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Апликација галванске струј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рансверзалн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галванизациј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кадa се третирани предeо налaзи iзме|у елeктрода (предња и задња странa лакта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4653000" y="1600200"/>
            <a:ext cx="40338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Примарно деловање поло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cc"/>
                </a:solidFill>
                <a:latin typeface="Times New Roman"/>
              </a:rPr>
              <a:t>Ано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исела сред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налгез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нтиедематозно деловањ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оагулациона некроз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мањује пермеабилнос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мањује осмостски притиса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нафореза сушење тки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мирујуће деловањ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cc"/>
                </a:solidFill>
                <a:latin typeface="Times New Roman"/>
              </a:rPr>
              <a:t>Като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базна сред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већање осетљивости на бо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купљање вод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ликвефакциона некроз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већава пермеабилнос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већва осмостски притиса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лажнос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дражајно деловањ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Секундарно деловање галванске струј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23640" y="3933720"/>
            <a:ext cx="604836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) тонуса вазомотор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) тонуса миш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ц) модулације бол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) трофике и метаболизм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121440" cy="2131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08:48:43Z</dcterms:created>
  <dc:creator>WIN98SE</dc:creator>
  <dc:description/>
  <dc:language>en-US</dc:language>
  <cp:lastModifiedBy>katarinaparezanovicilic@gmail.com</cp:lastModifiedBy>
  <dcterms:modified xsi:type="dcterms:W3CDTF">2020-09-26T16:57:35Z</dcterms:modified>
  <cp:revision>19</cp:revision>
  <dc:subject/>
  <dc:title>Elektroterapija</dc:title>
</cp:coreProperties>
</file>